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AA8FB-6E25-49B0-B82F-90C4CB1CB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CB3DE-2E5B-469E-8400-8A2896961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08F76-A2C9-4BE5-8BAD-1770D25F6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564A6-CC40-4D80-BA85-526EDDA29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57FAD-700F-4F90-8496-507180893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5C26A-410B-4C51-AF58-88F9BF14E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2E307-8E23-4C85-BF06-A19E2825E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8297D-0288-4FC5-B98E-54CDF0EE0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6453A-DAAC-4019-B451-6DB48BA91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F4FD3-BA67-4A5C-B33D-6E0D5B72E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EA31-3A78-4FE5-9A6B-A77D65364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71D8-DB5F-4E64-8399-85B3041F4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08F0-1311-4C25-8B12-C2CF5A886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tisan"/>
              </a:rPr>
              <a:t>Cursed Pla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tisan"/>
              </a:rPr>
              <a:t>Connor Dun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are the reasons behind this accusation and what real things have occurred to support this statement? </a:t>
            </a:r>
            <a:br>
              <a:rPr sz="2000"/>
            </a:br>
            <a:endParaRPr b="0" lang="en-US" sz="2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of the reasons is that the words that they used in the play we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l dark spells. Also the actresses that were in this play really studi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ark mag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762120" y="233208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reason is if you even quote or say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ame Macbeth you can die.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is anywhere in the theatre.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origins for this superstition. Old actors believe the witches' song in </a:t>
            </a:r>
            <a:r>
              <a:rPr b="0" i="1" lang="en-US" sz="2400" spc="-1" strike="noStrike">
                <a:solidFill>
                  <a:srgbClr val="ffffff"/>
                </a:solidFill>
                <a:latin typeface="Arial"/>
              </a:rPr>
              <a:t>Macbeth</a:t>
            </a:r>
            <a:r>
              <a:rPr b="0" lang="en-US" sz="2400" spc="-1" strike="noStrike">
                <a:solidFill>
                  <a:srgbClr val="ffffff"/>
                </a:solidFill>
                <a:latin typeface="Arial"/>
              </a:rPr>
              <a:t> to possess the uncanny power of casting evil spells.</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company that tries to do this play will not succeed with it.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ors call it </a:t>
            </a:r>
            <a:r>
              <a:rPr b="0" i="1" lang="en-US" sz="2000" spc="-1" strike="noStrike">
                <a:solidFill>
                  <a:srgbClr val="ffffff"/>
                </a:solidFill>
                <a:latin typeface="Arial"/>
              </a:rPr>
              <a:t>The </a:t>
            </a:r>
            <a:r>
              <a:rPr b="0" i="1" lang="en-US" sz="2000" spc="-1" strike="noStrike">
                <a:solidFill>
                  <a:srgbClr val="333399"/>
                </a:solidFill>
                <a:latin typeface="Arial"/>
              </a:rPr>
              <a:t>Scottish Play</a:t>
            </a:r>
            <a:r>
              <a:rPr b="0" lang="en-US" sz="2000" spc="-1" strike="noStrike">
                <a:solidFill>
                  <a:srgbClr val="ffffff"/>
                </a:solidFill>
                <a:latin typeface="Arial"/>
              </a:rPr>
              <a:t> and refer to the lead characters as the Mac-ers, Lady M, and other nicknames. If an actor accidentally mentions the name Macbeth they are expected leave the theater, spit three times, spin three times while cursing, and then ask permission to return to the theat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Lady Macbeth be the same age as Lord Macbe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predictions made by the three witches mean and what is the significance that there are three weird sisters and why the term siste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is the historical figure of Macbe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9360">
            <a:solidFill>
              <a:srgbClr val="ffffff"/>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the historical figure of the Scottish 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Macbeth a good man who grows into a villain?</a:t>
            </a:r>
            <a:r>
              <a:rPr b="0" lang="en-US" sz="2400" spc="-1" strike="noStrike">
                <a:solidFill>
                  <a:srgbClr val="000000"/>
                </a:solidFill>
                <a:latin typeface="Arial"/>
              </a:rPr>
              <a:t> </a:t>
            </a:r>
            <a:br>
              <a:rPr sz="24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7:29:29Z</dcterms:created>
  <dc:creator> </dc:creator>
  <dc:description/>
  <dc:language>en-US</dc:language>
  <cp:lastModifiedBy> </cp:lastModifiedBy>
  <dcterms:modified xsi:type="dcterms:W3CDTF">2010-02-02T19:10:47Z</dcterms:modified>
  <cp:revision>2</cp:revision>
  <dc:subject/>
  <dc:title>Cursed Play</dc:title>
</cp:coreProperties>
</file>